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CFA-F4F6-42B8-914C-27F52D6A4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5523-125B-4809-BE2B-C9057A8D0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7437-1214-4BC0-A542-F878E6F06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D0DC-6171-4803-A497-4531AA209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27817-6268-4532-A220-5893BD83C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0CAA-DCF5-47D0-B84F-633E2FB17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20872-BE54-48FB-9CB8-784EA556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7D088-6B6F-45FC-98BA-6B8793FE9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929D-36C6-420C-9BAC-58DC23753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F34AD-DDFB-47D4-8C2E-972ACCF86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F41C-F89F-41F9-AF80-42B797905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68DC-06BA-46F8-BB93-4F657265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B733-BE10-4006-9E3A-664C9463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97C6A-88CB-4BC0-88B6-B531109A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58BB6-8B21-45DE-997F-6DC5C0C1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E4FDC-8B03-4096-8411-81628CCC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1DE30-9466-4746-84FA-440AA2F74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9477-8D5D-4C56-9A92-8C6EC516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C2C3-29C3-410B-B967-C760A62F6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75B6-0C6F-4131-A4A1-97CD4B34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DB42-FF42-4A37-87AD-37DACD2B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353-3288-4DCF-A1A0-102DB598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CA76-937D-49E9-8D0B-271D82F02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6DC-76DE-4DD4-A378-F8A5B9FEC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055DC-2757-431D-A4A2-B13F7FBB44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148AC-0475-4F2D-8193-79006E6DE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BF-FINAL_noWhiteBorder.GIF"/>
          <p:cNvPicPr/>
          <p:nvPr/>
        </p:nvPicPr>
        <p:blipFill>
          <a:blip r:embed="rId2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0" descr="pwptline.jpg"/>
          <p:cNvPicPr/>
          <p:nvPr/>
        </p:nvPicPr>
        <p:blipFill>
          <a:blip r:embed="rId3"/>
          <a:srcRect l="771" t="760" r="1119" b="96620"/>
          <a:stretch/>
        </p:blipFill>
        <p:spPr>
          <a:xfrm>
            <a:off x="0" y="11430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9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EBF-FINAL_noWhiteBorder.GIF"/>
          <p:cNvPicPr/>
          <p:nvPr/>
        </p:nvPicPr>
        <p:blipFill>
          <a:blip r:embed="rId4"/>
          <a:stretch/>
        </p:blipFill>
        <p:spPr>
          <a:xfrm>
            <a:off x="73080" y="71280"/>
            <a:ext cx="2070000" cy="8794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46c0a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1" marL="727920" indent="-28008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2" marL="1119960" indent="-22392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3" marL="1568160" indent="-223920">
              <a:spcBef>
                <a:spcPts val="901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4" marL="2016000" indent="-223920">
              <a:spcBef>
                <a:spcPts val="901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5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lvl="6" marL="2016000" indent="-22392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660C-ECE8-4EA3-B49E-1F661E7369C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1393-9682-4173-897B-D52593078F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PROPOSED FTT DIRECTIVE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US" sz="3600" spc="-1" strike="noStrike">
                <a:solidFill>
                  <a:srgbClr val="1f497d"/>
                </a:solidFill>
                <a:latin typeface="Calibri"/>
              </a:rPr>
              <a:t>COM(2011) 594 of 28.09.2011</a:t>
            </a: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7890120" y="26028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2193A-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2B3BD-08C7-4780-BA40-B420E1AFF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ACT EXPECTED BY THE COMMISSION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483920"/>
            <a:ext cx="8640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venue estimation: ≈ €55 bn annually, depending on market reactions and effectiveness of tax colle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Market reaction / functioning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securities markets is assumed to decline by up to 20%, namely with respect to the segment of HF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he turnover on derivatives markets is expected to decline by up to 90% in some market segments, especially in the market segment of HFT and highly-leverag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act on financial centre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mportant decline in the (inflated) turnover in some market segments (namely HFT and highly-leveraged product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Need for adjusting business models to the new tax environ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mall impact on employme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7D0FE-E4AF-403D-A898-226A7E1644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HE COMMISSION’S MOTIVATION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0920" y="1557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Ensure that the financial sector makes a fair contribution at a time of fiscal consolidation in the Member States, assuming that the financial sector is currently under-taxed vis-à-vis other sector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trengthen the EU Single Market by setting up a harmonized framework to tax financial transactions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help reduce competitive distortion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deter from excessive risk-taking activities;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complement regulatory measures aimed at prevent future crises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o promote common rules for the introduction of a FTT at global level.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CA1DA-AEBC-4187-8A21-C46AE42B5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ESIDENCE PRINCIPLE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87280" y="1341000"/>
            <a:ext cx="8677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least one of the parties to transaction needs to be “established in a MS”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“financial institution” “established in MS” concerne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s party to the transaction acting either for its own account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for the account of another pers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or is acting in the name of a party to th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s a rule “establishment of financial institution” determines which MS has to tax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financial institution is not considered to be established in a MS in case it proves that there is no link between the economic substance of the transaction and the territory of any M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91B2B-F341-4352-93F6-7AFAA85678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COLLECTION &amp; ADMINISTRATION </a:t>
            </a:r>
            <a:br>
              <a:rPr sz="3200"/>
            </a:br>
            <a:r>
              <a:rPr b="1" lang="en-GB" sz="3200" spc="-1" strike="noStrike">
                <a:solidFill>
                  <a:srgbClr val="e46c0a"/>
                </a:solidFill>
                <a:latin typeface="Calibri"/>
              </a:rPr>
              <a:t>OF THE TAX</a:t>
            </a:r>
            <a:endParaRPr b="0" lang="en-US" sz="32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Focus on Financial Institutions, broadly defined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f497d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ax chargeable event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= Execution of a financial transaction involving an EU Financial Institu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Liability of Financial Institutions for the payment of the FTT to tax authorit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t the moment of the tax chargeable event in case of electronic financial transaction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within three working days from chargeability in all other cas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Joint liability of each party to the transaction 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8C01-4D3F-4723-8A17-813D5C3FBF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1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SCOPE OF THE TAX 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Broad based approach in terms of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Instruments ; and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actions (both organised markets and OTC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Reference to relevant regulatory EU framework used as much as possible for definition of financial instruments and “Financial transactions”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Purchase and sale of transferable securities, money-market instruments, units and shares in collective investment undertakings, structured produc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Securities lending and borrowing and repo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Conclusion/Modification and trading of derivatives agreemen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Transfers of financial instruments between group entities (other than purchase and sale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Calibri"/>
              </a:rPr>
              <a:t>A derivatives agreement resulting in a sale or purchase of a financial instrument (physical settlement) triggers additional taxable transac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E3D8-CF32-4BBA-B3BB-E0616B8A39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OUT OF SCOP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3640" y="1484280"/>
            <a:ext cx="856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SMEs and Private Household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nterprise borrowing/lending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Mortgage loan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onsumer credi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nsurance contract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ayment transactions, etc.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large and international business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800" spc="-1" strike="noStrike">
                <a:solidFill>
                  <a:srgbClr val="1f497d"/>
                </a:solidFill>
                <a:latin typeface="Calibri"/>
              </a:rPr>
              <a:t>S</a:t>
            </a: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ot currency transactions (as opposed to currency derivative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Primary market transactions for raising capital through the issuing of shares and bonds (except for shares and units of collective investment undertakings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public borrow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Issuing of government bond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Ring-fencing monetary policy and post-trading: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Transactions with ECB, Central Banks of Member States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EFSF (not considered to be a financial institution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alibri"/>
              </a:rPr>
              <a:t>Central Counter Parties (idem)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4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233C-53C1-4510-8AB3-40C1B5D8DE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TAXABLE BASE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3640" y="1599840"/>
            <a:ext cx="85690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Financial transactions other than those related to 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or owed for the transfer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Market price (= at arm’s length price) in case :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Amount paid for transfer is lower than market price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Or transfers of financial instruments between entities of a group in case they do not constitute a « purchase or a sale »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Derivatives agreements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Notional amount of the derivatives agreement (underlying notional or face amount that is used to calculate payments made on a given derivatives agreement)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Common provision on exchange rate to be applied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1f497d"/>
                </a:solidFill>
                <a:latin typeface="Calibri"/>
              </a:rPr>
              <a:t>Taxing gross transactions before netting and settlement</a:t>
            </a: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0D04-4F4C-4FC2-92DE-5DF1B5D300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RATES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50920" y="155700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Financial instruments other than derivatives and derivatives are different in nature/economic value/taxable amount =&gt; rates to be differentiated between two categori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Level of rates defined in the Proposal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would guarantee a part of revenue for the EU budget and a part for the Member States’ budget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sufficiently high for harmonisation objective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need to be low enough to avoid excessive market reactions and relocation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Tax rates: 0,01% for derivatives and 0,1% for other transactions (for each taxable party to the transaction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Character of the rate: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Minimum rates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497d"/>
                </a:solidFill>
                <a:latin typeface="Calibri"/>
              </a:rPr>
              <a:t>One single rate (for each of the two product groups)</a:t>
            </a:r>
            <a:endParaRPr b="0" lang="en-US" sz="2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FF73-EE92-4ED7-BEEF-843A0E425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Calibri"/>
              </a:rPr>
              <a:t>IMPLEMENTATION CALENDAR</a:t>
            </a:r>
            <a:endParaRPr b="0" lang="en-US" sz="3600" spc="-1" strike="noStrike">
              <a:solidFill>
                <a:srgbClr val="e46c0a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50560" y="1483920"/>
            <a:ext cx="8569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Proposed implementation as of 1 January 2014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f497d"/>
                </a:solidFill>
                <a:latin typeface="Calibri"/>
              </a:rPr>
              <a:t>Review clause: after five years, first time by 31/12/ 2016, report on application of FTT, possibly with a modification proposal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9857-0772-4351-AF26-ACCD44A890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5T16:25:09Z</dcterms:created>
  <dc:creator>Mireille Thiery</dc:creator>
  <dc:description/>
  <dc:language>en-US</dc:language>
  <cp:lastModifiedBy>Mireille Thiery</cp:lastModifiedBy>
  <dcterms:modified xsi:type="dcterms:W3CDTF">2011-12-08T09:57:40Z</dcterms:modified>
  <cp:revision>44</cp:revision>
  <dc:subject/>
  <dc:title>Slide 1</dc:title>
</cp:coreProperties>
</file>